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F08-C4EA-4D10-B115-255F17DD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DF2-E453-40F4-99E2-E20934E0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A1F-74B4-48E7-85A6-6045F4AD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E8F-D420-47B3-9059-9ACD09C5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37C7-556F-4B89-90A1-44413B31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364F-D501-4CB4-8808-2F8844D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6766-7002-4D4C-876E-4097FA3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666B-778C-42FF-A0DA-8EE645F2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4D0D-4DE4-4942-AA54-335C8CF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E980-32FE-4EB9-85B0-D203E41F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C1FC-1D81-485D-BFB2-6E03968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02E-5A3B-4C03-A30A-3315AFFE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FCF-1EE7-4832-8876-664B167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AC9B-43AA-4339-849F-2B7E854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84BC-DD73-4B8F-87DB-0C8083C0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1934-0FB6-4087-93AD-D18E04C3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173-BECA-4217-BB61-BFDF3E12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216-9B45-46F5-A7D6-2C07C888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273-C2F0-4832-A320-66AF7D08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74F-5EAB-4D90-9024-0367ADEB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F84-960A-45FA-B03E-0A8026C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157-71E7-48EE-9477-219DD27B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3CC-FDAC-4229-8066-1299840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433-939E-4B48-B550-B1B0580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8030-B4E2-4165-93D8-31A84397CE3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72D8-3712-427D-9153-93CE31F176A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ipKSt9xW-Y" TargetMode="External"/><Relationship Id="rId2" Type="http://schemas.openxmlformats.org/officeDocument/2006/relationships/hyperlink" Target="http://www.youtube.com/watch?v=iBoPTbwZdi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9P4X9DtKQ8" TargetMode="External"/><Relationship Id="rId2" Type="http://schemas.openxmlformats.org/officeDocument/2006/relationships/hyperlink" Target="http://www.youtube.com/watch?v=8Ha0MnLZPZk" TargetMode="External"/><Relationship Id="rId3" Type="http://schemas.openxmlformats.org/officeDocument/2006/relationships/hyperlink" Target="http://www.youtube.com/watch?v=3jDNyqCMGFQ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deo Communic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y-Liz Guth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Video Commun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munications class for grades 9-12 that challenges students to transform and communicate their creative ideas through the medium of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yearlong, 1 credit major course (offered 6 of 6 letter da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yearlong, .5 credit minor course (offered 3 of 6 letter da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olest Class”    Girl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do Video Communication students produ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ight News and Knight Life: taped segments about education and school events and local and global issues that air on the daily announcements and on Monday nights, channel 2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Silent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on the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Service Announcements: anti-drug and other safety and social issue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top the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Film: any genre (con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do Video Comm. students produc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Issues Documentary: (con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ve/Resource Videos: produced for various departments or schoo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Lab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ertising: school ev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Coat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eace 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biographical/Biographical Videos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t Hero               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ic Videos:  Don’t Wanna 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your school needs Video Communic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Communications increases students’ use of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Communications improves communication within the school and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6:25:06Z</dcterms:created>
  <dc:creator>guthierm</dc:creator>
  <dc:description/>
  <dc:language>en-US</dc:language>
  <cp:lastModifiedBy>guthierm</cp:lastModifiedBy>
  <dcterms:modified xsi:type="dcterms:W3CDTF">2011-01-11T02:39:34Z</dcterms:modified>
  <cp:revision>4</cp:revision>
  <dc:subject/>
  <dc:title>Video Communications</dc:title>
</cp:coreProperties>
</file>